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173B-0A76-44DF-8BC8-CB86ED2E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0B0-D7A2-42F9-83AE-A4279DA3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04F-38B6-459F-B7D1-98CB331C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082-DF3C-4A02-A817-41FE295F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C74-3305-412D-8569-A68BCAEF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F08-DFA0-4AE6-8202-840A1561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28D-4250-445C-8E74-FF7A7BF3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7C7-D95B-435A-B5FF-863A6D96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738-824E-48B1-95C7-04D840EC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D1C-59BF-42E9-AF7C-36CCB03D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8B0-41F2-4E8D-B804-84E15750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D23-891B-4758-AAF6-12128190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01C8-1E12-4D0F-A856-C7FB28684F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uweb.vic.gov.au/edulibrary/public/teachlearn/student/keycharliteracyp6.pd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98840" y="550800"/>
            <a:ext cx="3944880" cy="5408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66680" y="1504800"/>
            <a:ext cx="88106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duweb.vic.gov.au/edulibrary/public/teachlearn/student/keycharliteracyp6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539640" y="907920"/>
            <a:ext cx="828036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ing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oy Write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Ralf Fletcher Chapters 5 &amp; 6  – Vanishing Act: The Matter of Choice; Violent Wri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riting Essential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 Regie Routman -  Making Assessment C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et Characters Help Children Read and Writ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Donald Graves A Reading and Writing Workshop on Character and A workshop on 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Jigs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Form a group of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Decide which article you would like to r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Move to where the others are who are reading that artic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ime for reading and then tal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19280" indent="-3603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Draw out the key ele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19280" indent="-3603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Choose 3 to take back to home grou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Back to Home group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19280" indent="-3603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Share the 3 key ideas from each read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19280" indent="-360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Implications for our Schoo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798480" indent="-3412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- One agreed though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Quick Wr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A quickwrite is a first draft response to a short piece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writing (usually a poem, one page of prose, or a sho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picture book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Write for 2-3 minutes of a found idea or borrowed li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from a text, responding to something that sparks a reaction in the reader or listener’s mind. Try to keep to the time limit as I’ve found that this is cruci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Make sure you date each entry. These form seed ideas for students to return to with the idea of selecting one to develop into published pieces.</a:t>
            </a:r>
            <a:r>
              <a:rPr b="0" i="1" lang="en-A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Quick Wr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2700" spc="-1" strike="noStrike">
                <a:solidFill>
                  <a:srgbClr val="000000"/>
                </a:solidFill>
                <a:latin typeface="Calibri"/>
              </a:rPr>
              <a:t>Endanger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It is so quiet on the shore of this motionless lak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You can see the slow recessional of extinct anima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as they leave through a door at the back of the world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disappearing like the verbs of a dead langu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e last troop of kangaroos hopping out of the picture, the ultimate paddling of ducks and pitying of turtledov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and, his bell tolling in the distance, the final go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700" spc="-1" strike="noStrike">
                <a:solidFill>
                  <a:srgbClr val="000000"/>
                </a:solidFill>
                <a:latin typeface="Calibri"/>
              </a:rPr>
              <a:t>Billy Colli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For 2 minutes, write as quickly as you can about any experience this poem brings to mind for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Borrow any line from this poem and write for 2 minutes, letting the line lead your thin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08:15:44Z</dcterms:created>
  <dc:creator>Pat</dc:creator>
  <dc:description/>
  <dc:language>en-US</dc:language>
  <cp:lastModifiedBy>Pat</cp:lastModifiedBy>
  <dcterms:modified xsi:type="dcterms:W3CDTF">2010-08-16T08:22:35Z</dcterms:modified>
  <cp:revision>1</cp:revision>
  <dc:subject/>
  <dc:title>Slide 1</dc:title>
</cp:coreProperties>
</file>